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3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ricardo%20arjona%20intocable-%20mojado.wav" ContentType="audio/x-wav"/>
  <Override PartName="/ppt/media/image30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29.jpeg" ContentType="image/jpeg"/>
  <Override PartName="/ppt/media/image52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DD1A-092C-498C-AAD8-3AA22139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FA6E-7927-4218-A3C5-3A1D1EF9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41BE-7EAB-400B-B098-EE6C7A54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7656-53D6-40F7-B9B1-6EAC9E08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E1A-F3FA-47CD-925B-0F55C136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E3B-8C1D-4D4C-9FB9-AAAF0B68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FCC-842F-4C5C-BB6C-66B7C9D6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ED94-B5F1-4186-8ED9-D00453BA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8854-4493-43D8-94D1-BAB8BD0A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7813-A5B6-4369-80AA-D812D59F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A20-08F2-4BE1-99D3-FD9B335F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38D0-6641-4A62-AAE4-A6D5B839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0B00-66F1-49F4-8E14-B019EC4E2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cardo%20arjona%20intocable-%20mojado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6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INTOCABLE… “MOJAD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125000"/>
            <a:ext cx="64008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icardo Arj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725480"/>
            <a:ext cx="9325080" cy="5132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808760" y="333360"/>
            <a:ext cx="133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3300"/>
                </a:solidFill>
                <a:latin typeface="Arial"/>
              </a:rPr>
              <a:t>No uses el rató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3300"/>
                </a:solidFill>
                <a:latin typeface="Arial"/>
              </a:rPr>
              <a:t>por fav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  <p:sndAc>
      <p:stSnd>
        <p:snd r:embed="rId2" name="ricardo%20arjona%20intocable-%20mojad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80360" cy="686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79600" y="649116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perforó la frontera como pu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78120" y="6216480"/>
            <a:ext cx="43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la luna suave se desliza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 cualquier cornisa sin permiso algu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59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46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840320" y="6216480"/>
            <a:ext cx="46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 qué el mojado precisa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obar con visas que no es de Neptu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4168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629160" y="0"/>
            <a:ext cx="55148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532720" cy="6924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00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631960" y="6491160"/>
            <a:ext cx="36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El mojado tiene ganas de seca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46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5040" y="62164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el mojado está mojado</a:t>
            </a:r>
            <a:br>
              <a:rPr sz="1800"/>
            </a:b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por las lágrimas que bota la nostalg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627280" y="5950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 mojado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 indocumentado, carga el bu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ue legal no cargaría ni obli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5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195640" y="6537240"/>
            <a:ext cx="66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el suplicio de un papel  lo ha convertido en fugitivo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305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95640" y="6237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no es de aquí, porque su nomb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aparece en los archivos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6520" y="0"/>
            <a:ext cx="4497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3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783600" y="64911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 es de allá porque se fu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2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4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9640" y="566748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la luna suave se desl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 cualquier cornisa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 permiso alguno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5462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65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5661000"/>
            <a:ext cx="45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r qué el moj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cisa comprobar con visa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ue no es de Neptu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8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71640" y="6237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jado sabe a mentir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 verdad sabe a tristeza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0880" y="0"/>
            <a:ext cx="3813120" cy="619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80040" cy="6192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62164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ansiedad de ver un primo  y soñar con la vereda que conduce hasta tu casa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Ba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31960" y="6491160"/>
            <a:ext cx="33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jado, mojado de tanto llora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8008" r="0" b="0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54840" y="6491160"/>
            <a:ext cx="500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biendo que en algún lugar te espera un be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80320" y="621648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haciendo</a:t>
            </a:r>
            <a:br>
              <a:rPr sz="1800"/>
            </a:b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pausa desde el día que te marchast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459640" cy="5430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569080" cy="5381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46200" y="981000"/>
            <a:ext cx="8497800" cy="56595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ircl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500"/>
                            </p:stCondLst>
                            <p:childTnLst>
                              <p:par>
                                <p:cTn id="66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15200" y="6216480"/>
            <a:ext cx="50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la luna suave se desliza por cualquier cornisa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 permiso algu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11557080" cy="6923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45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58920" y="6491160"/>
            <a:ext cx="87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 qué el mojado precisa comprobar con visas que no es de Neptu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97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193400" y="6537240"/>
            <a:ext cx="53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la visa universal se extiende el día que nacemo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6159240" y="649116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Black"/>
              </a:rPr>
              <a:t>y caduca en la muer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01040" y="6216480"/>
            <a:ext cx="45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 qué te persiguen, mojado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el Cónsul de los Cielos ya te dio permi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08720" cy="5372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172360" cy="5394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39640" y="765000"/>
            <a:ext cx="8244000" cy="56660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ircl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181080" y="2935440"/>
            <a:ext cx="9325080" cy="4398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687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00960" y="357336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Hecho en Cádiz el 17/04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46440" y="4149720"/>
            <a:ext cx="45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"/>
              </a:rPr>
              <a:t>Dedicado a ellos,pidiéndoles perd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"/>
              </a:rPr>
              <a:t>en nombre del “Primer Mundo”.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heel spokes="8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0" y="626760"/>
            <a:ext cx="45957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acó un par de camisas, un sombrero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 vocación de aventurero, seis consejo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 fotos, mil recuerdos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acó sus ganas de quedarse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 condición de trasformar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 el hombre que soñó y no ha logrado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jo adiós con una mueca disfrazada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 sonrisa y le suplicó a su Dios crucificado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 la repisa el resguardo de los suyo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 perforó la frontera como pu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 la luna suave se desliza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r cualquier cornisa sin permiso alguno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r qué el mojado precisa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robar con visas que no es de Neptu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mojado tiene ganas de secars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mojado está mojado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r las lágrimas que bota la nostalgia; el mojado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indocumentado, carga el bu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 legal no cargaría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 obligado el suplicio de un pa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 ha convertido en fugitivo,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813600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y no es de aquí, porque su nomb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 aparece en los archivos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i es de allá porque se fu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i la luna suave se desliza por cualquier cornisa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in permiso alguno, por qué el moj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recisa comprobar con visas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no es de Neptu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ojado sabe a mentir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tu verdad sabe a tristeza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a ansiedad de ver un pri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y soñar con la vereda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conduce hasta tu casa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ojado,mojado de tanto llorar, sabiendo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en algún lugar te espera un beso, haciendo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ausa desde el dia que te marchas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i la luna suave se desliza por cualquier cornisa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in permiso alguno, por qué el mojado precisa comprobar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 visas que no es de Neptu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i la visa universal se extiende el dia que nacemos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y caduca en la muerte, por qué te persiguen, mojado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i el cónsul de los cielos ya te dio permi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9600" y="649116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Usa ahora el ra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5516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LA EUROPA DEL FUTURO SERÁ, NOS GUSTE O NO,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UNA EUROPA MULTIETNICA”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(J. GOYTISO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46520" y="2602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Usa ahora el ra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72720" cy="6157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093680" y="73080"/>
            <a:ext cx="73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También nuestros abuelos fueron emigrantes, y nadie los rechaz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843280" y="465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in palab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569440" y="6643800"/>
            <a:ext cx="57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be0e3"/>
                </a:solidFill>
                <a:latin typeface="Arial"/>
              </a:rPr>
              <a:t>joaqu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62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16000" y="6308640"/>
            <a:ext cx="44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acó un par de camisas, un sombrero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576000" cy="6386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624320" y="6165720"/>
            <a:ext cx="44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 vocación de aventurero, seis consej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4520" y="649116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fotos, mil recuer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Malgache girls waiting for fish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627280" y="5942160"/>
            <a:ext cx="352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acó sus ganas de quedar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 condición de transformar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35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416680" y="609300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 el hombre que soñó y no ha logrado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65977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653724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jo adiós con una mueca disfrazada de sonris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9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32320" y="6216480"/>
            <a:ext cx="408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le suplicó a su Dios crucificado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 la repisa el resguardo de los suy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508720" y="3502080"/>
            <a:ext cx="3635280" cy="3355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1:35:18Z</dcterms:created>
  <dc:creator>Gonzalo Perez</dc:creator>
  <dc:description/>
  <dc:language>en-US</dc:language>
  <cp:lastModifiedBy>Joaquin Fernandez-Caro Gomez</cp:lastModifiedBy>
  <dcterms:modified xsi:type="dcterms:W3CDTF">2008-06-23T10:48:01Z</dcterms:modified>
  <cp:revision>17</cp:revision>
  <dc:subject/>
  <dc:title>Diapositiva 1</dc:title>
</cp:coreProperties>
</file>